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9422-BFDB-4CF3-8A3D-80D94E45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E61D-88E8-488F-AB6B-0D3C9661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2BA9-F4E0-4A9A-B4FA-89020A72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F6CE-98FE-42B1-A98F-3CA9F121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39B4-2D5F-413B-B145-3CFA9B99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D0EE-593E-48D8-8668-C4B5D15E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A71C-7706-470B-934F-2AF0D4CF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B103-0BDE-440F-A8DB-D2877B49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6832-5AD5-4FE4-901C-51B89043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69CE-1FE3-45C0-AC02-BA8B0B4A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4B6A-1ABA-42D2-B34F-3A5FDCD6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405C-2279-4AA3-9AF6-B38B98B7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C8FD-8948-4286-8F0E-8364ECD7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0ED3-AF5D-4756-ACDA-D5B41A6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CC9C-1B4C-4F90-8D6C-489BB967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914D-15BE-4FF3-86A0-894D7FC4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3B12-9F71-4A7C-AA0C-995EEBF7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D825-352E-44AF-9E28-F888F552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78E6-CFB9-45DF-B349-D1FB627C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4C71-6954-48B2-B58B-D6BEB5F8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B849-F4D8-41DE-A97E-F3CF1DE1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6377-6998-4EAC-A587-7D67DC4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6796-B601-40AD-AFC2-81F2EF2C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B3B1-3DDE-486B-828B-8261C2A8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87FC-FCE5-4028-A920-EDBF6C436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4255-E30C-4567-BAD6-541FEE651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eachpe.com/images/exercise_physiology/oxygen_debt.jpg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Arial"/>
              </a:rPr>
              <a:t>Delivery of Oxygen</a:t>
            </a:r>
            <a:br>
              <a:rPr sz="4600"/>
            </a:b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Chapter 5 in Text p. 117 (Malpeli et al, 2008)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Deficit and Debt During Light-Moderate and Heavy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9176" t="28125" r="7500" b="29853"/>
          <a:stretch/>
        </p:blipFill>
        <p:spPr>
          <a:xfrm>
            <a:off x="0" y="1703520"/>
            <a:ext cx="9144000" cy="38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is EPO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other term used for the recovery oxygen consumption is Excess Post-exercise Oxygen Consumption EP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fference between Oxygen Debt and Oxygen Defic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ygen defi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s the process of getting into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ygen deb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w much oxygen needs to be rep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est Yourself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pe.com/cloze/oxygen_debt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rdle, William D., Frank I. Katch, and Victor L. Katch.  2000.  Essentials of Exercise Physiolog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. Image Collection.  Lippincott Williams &amp; Wilk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lpeli, R. , Horton, M., Davey, G., &amp; Telford, A. (2008). Nelson Physical Education VCE Units 3 &amp; 4 (4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ed). South Melbourne; Cen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teachpe.com/images/exercise_physiology/oxygen_debt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essed on October 18.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xygen Uptake during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xercise rapidly attains steady-rate and small oxygen defic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to heavy takes longer to reach steady-rate &amp; oxygen deficit considerably lar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666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xygen Defic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iod during exercise where th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MUSCLE is BELOW that required to produ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ATP aerob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tart of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s during aerobic exercise where intensity exceeds 85%, Eg: riding up a hill or in a big gear, surging away from an opponent. The lactic acid system will produc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 A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ed (aerobic still domin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size of the oxygen deficit is determined b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nsity of the activity. Consider light vs hea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teady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TEADY STA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int during exercise when oxygen supply to musc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s oxygen requirements (to produce AT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robicall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ed by a plateau in hr, Q, SV and V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inant energy system: aero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2 supply = O2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urance athletes with a higher LIP will be able to steady state at a higher intensity, delaying use of lactic acid system and accum. of H+, ADP + 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gen Defic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8064720" cy="43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eart Rate and Int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57200" y="2355840"/>
            <a:ext cx="82296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ther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sufficient oxy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livered to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aken up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scle,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aerobic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ystems will su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bulk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651200" y="1765440"/>
            <a:ext cx="40356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XYGEN DEBT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exercise consumed after exercise (during recovery) that is over the level consumed during 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ze of the O2 Debt is dependant on the size of the O2 Deficit and the type / length of recover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ollowing occurs during EPO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ynthesise ATP and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yntheisie lactate to glycogen (cori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xidise lac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tore oxygen to myogl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e Fig. 5.7 on p.1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Heart Rate and Oxygen con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66400"/>
            <a:ext cx="42609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en exercis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ur heart rate increases to meet the oxygen demands for the working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lationship between HR and oxygen consumption is lin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ined athletes are able to utilise their oxygen uptake more efficiently than non trained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ined athletes VO2 will be lower at submax intensity and higher at max intens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fig 5.3 p.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age29"/>
          <p:cNvPicPr/>
          <p:nvPr/>
        </p:nvPicPr>
        <p:blipFill>
          <a:blip r:embed="rId1"/>
          <a:stretch/>
        </p:blipFill>
        <p:spPr>
          <a:xfrm>
            <a:off x="4651200" y="1947960"/>
            <a:ext cx="40356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5950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eachpe.com/images/exercise_physiology/oxygen_deb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9:58:20Z</dcterms:created>
  <dc:creator>Russell Simpson</dc:creator>
  <dc:description/>
  <dc:language>en-US</dc:language>
  <cp:lastModifiedBy>Russell Simpson</cp:lastModifiedBy>
  <dcterms:modified xsi:type="dcterms:W3CDTF">2010-10-20T09:14:50Z</dcterms:modified>
  <cp:revision>4</cp:revision>
  <dc:subject/>
  <dc:title>Delivery of Oxygen </dc:title>
</cp:coreProperties>
</file>